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84700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B927-95BC-4231-B440-6F8A93008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1600" y="698400"/>
            <a:ext cx="4654800" cy="3492720"/>
          </a:xfrm>
          <a:prstGeom prst="rect">
            <a:avLst/>
          </a:prstGeom>
          <a:ln w="0">
            <a:noFill/>
          </a:ln>
        </p:spPr>
      </p:sp>
      <p:sp>
        <p:nvSpPr>
          <p:cNvPr id="43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A54C-72BA-474F-92FA-ECC8345BE9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1600" y="698400"/>
            <a:ext cx="4654800" cy="3492720"/>
          </a:xfrm>
          <a:prstGeom prst="rect">
            <a:avLst/>
          </a:prstGeom>
          <a:ln w="0">
            <a:noFill/>
          </a:ln>
        </p:spPr>
      </p:sp>
      <p:sp>
        <p:nvSpPr>
          <p:cNvPr id="433"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 goal (phys aggress) top of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line 75% to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line 80% to 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D890-3B02-432C-9209-5803135653F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1600" y="698400"/>
            <a:ext cx="4654800" cy="3492720"/>
          </a:xfrm>
          <a:prstGeom prst="rect">
            <a:avLst/>
          </a:prstGeom>
          <a:ln w="0">
            <a:noFill/>
          </a:ln>
        </p:spPr>
      </p:sp>
      <p:sp>
        <p:nvSpPr>
          <p:cNvPr id="436"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tarted at 77% because transferred from another school and was suspected to be in a honeymoon phase. The aimline is showing an upward trend because student was already above 75%. In this case, we looked at the trendline and goal line to see if they would intersect before 18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hypothesis was confirmed, the student was in a honeymoon phase as the median of her last 3 data points was 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75% respectful b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line 80% and up b/c baseline over goal (honey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line 80% to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18 wee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BB39-FB8F-42B1-8BE7-38129360CF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1600" y="698400"/>
            <a:ext cx="4654800" cy="3492720"/>
          </a:xfrm>
          <a:prstGeom prst="rect">
            <a:avLst/>
          </a:prstGeom>
          <a:ln w="0">
            <a:noFill/>
          </a:ln>
        </p:spPr>
      </p:sp>
      <p:sp>
        <p:nvSpPr>
          <p:cNvPr id="439"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student was in a honeymoon phase, so she was above the goal (75%) when she transferred into the new school. That is why we compared the student’s trendline to the goalline and not the aim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5% goal following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line (non-existent b/c/ started above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line 85% to 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18 weeks </a:t>
            </a:r>
            <a:endParaRPr b="0" lang="en-US" sz="1200" spc="-1" strike="noStrike">
              <a:solidFill>
                <a:srgbClr val="000000"/>
              </a:solidFill>
              <a:latin typeface="Calibri"/>
            </a:endParaRPr>
          </a:p>
        </p:txBody>
      </p:sp>
      <p:sp>
        <p:nvSpPr>
          <p:cNvPr id="44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8C23-AA27-45D8-9594-806E6576AD2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01600" y="698400"/>
            <a:ext cx="4654800" cy="3492720"/>
          </a:xfrm>
          <a:prstGeom prst="rect">
            <a:avLst/>
          </a:prstGeom>
          <a:ln w="0">
            <a:noFill/>
          </a:ln>
        </p:spPr>
      </p:sp>
      <p:sp>
        <p:nvSpPr>
          <p:cNvPr id="40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643E-CACD-4F6B-A00A-C4050DC8CC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1600" y="698400"/>
            <a:ext cx="4654800" cy="3492720"/>
          </a:xfrm>
          <a:prstGeom prst="rect">
            <a:avLst/>
          </a:prstGeom>
          <a:ln w="0">
            <a:noFill/>
          </a:ln>
        </p:spPr>
      </p:sp>
      <p:sp>
        <p:nvSpPr>
          <p:cNvPr id="41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9D64-DA62-415E-8778-985271A1B2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1600" y="698400"/>
            <a:ext cx="4654800" cy="3492720"/>
          </a:xfrm>
          <a:prstGeom prst="rect">
            <a:avLst/>
          </a:prstGeom>
          <a:ln w="0">
            <a:noFill/>
          </a:ln>
        </p:spPr>
      </p:sp>
      <p:sp>
        <p:nvSpPr>
          <p:cNvPr id="41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3943-AB1C-465F-80B8-D928B0769F6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1600" y="698400"/>
            <a:ext cx="4654800" cy="3492720"/>
          </a:xfrm>
          <a:prstGeom prst="rect">
            <a:avLst/>
          </a:prstGeom>
          <a:ln w="0">
            <a:noFill/>
          </a:ln>
        </p:spPr>
      </p:sp>
      <p:sp>
        <p:nvSpPr>
          <p:cNvPr id="41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CA97-AE9C-4B87-AFB4-5AF8C74B19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1600" y="698400"/>
            <a:ext cx="4654800" cy="3492720"/>
          </a:xfrm>
          <a:prstGeom prst="rect">
            <a:avLst/>
          </a:prstGeom>
          <a:ln w="0">
            <a:noFill/>
          </a:ln>
        </p:spPr>
      </p:sp>
      <p:sp>
        <p:nvSpPr>
          <p:cNvPr id="42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D1D4-D396-43FA-BF94-743A4408B5E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1600" y="698400"/>
            <a:ext cx="4654800" cy="3492720"/>
          </a:xfrm>
          <a:prstGeom prst="rect">
            <a:avLst/>
          </a:prstGeom>
          <a:ln w="0">
            <a:noFill/>
          </a:ln>
        </p:spPr>
      </p:sp>
      <p:sp>
        <p:nvSpPr>
          <p:cNvPr id="42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C2EC-9FDA-4425-A108-059213E8EF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1600" y="698400"/>
            <a:ext cx="4654800" cy="3492720"/>
          </a:xfrm>
          <a:prstGeom prst="rect">
            <a:avLst/>
          </a:prstGeom>
          <a:ln w="0">
            <a:noFill/>
          </a:ln>
        </p:spPr>
      </p:sp>
      <p:sp>
        <p:nvSpPr>
          <p:cNvPr id="42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2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C290-228D-455A-8191-338CD4CA605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EA556-B810-459A-A0DD-7A145CA42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66916-D5F8-4E85-996C-2800667A5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99CCD-554C-4010-8A0B-BA312EC63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8ABF7-A4FF-40ED-AFF5-D045631B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C34DB-50E6-4321-90AA-50AD84D3B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02324-F13B-412F-93F3-41419C67C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DCE59-F199-47D6-92E2-4BD041D68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79E0F-62A0-47A5-97CF-1071E89D6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3B094-3A2E-4AE7-B495-41052AC5A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3F37C-EB19-42C1-BA12-CC831460B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56DF5-F015-4E2E-B7C3-806F4C71D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1C87B-C8C6-476F-8B56-77643BAC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D9C7A-979E-4166-97A6-852CC885C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A8FE5-24BF-4C3B-9D4F-6F67AD16E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2BF19-8F82-457B-BA06-F113C1826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4407A-D38C-4528-8498-F5A876826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7AB4B-1BEE-428D-B169-8B4E19278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8D7847-968D-4E3D-8490-A31B2632F2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E3007-8F2E-4622-8A2E-050A75D14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AF458-AD37-4980-8363-13B8A845A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7C295-A55A-44A2-B217-2FCE6D35A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68968-C13F-47CB-86E1-735E2220E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566B4-E4B4-4FB4-B8F0-E38BC545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DA4A2-46D2-4638-980B-9B5D01D3E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0A0B0-9961-453B-BB07-EF6CE294A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CA739-1B52-44A2-8D6D-0778C6BEA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954C5-BB3A-4ADA-95B9-C73B7B883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327D3-A2A9-401D-B125-218BF452A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29B497-98F0-48C1-A254-D6681C2DE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91D3ED-9073-484E-B451-D5593C65F7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B4AE61-CF92-4B6B-9E5A-FE6EF858F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FE03B-AAC9-4F7F-85CB-0D9644DB9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1E095-C34D-42B8-85AC-ECEFEBD88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8B191-9181-42F4-96BC-8794AB01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11B037-41DF-48A5-9EC7-AD1D7D44B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2C3BC-F6D4-4882-B596-280D55608C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44933-D966-4AEA-AD6D-EEEF79AB8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71607-AD67-483F-B6A8-D45F04A0F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4E8F1-1542-41D6-9EE3-5FA72E939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D914A-0433-4684-ABC7-FBE5B0A76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6074A-94F6-42A0-919F-13C3A5B40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74A369-3F8F-490C-BF10-9C80F8B3FA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6C3713-43DC-4ECE-BD4D-BE2178697B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E3E01F-550E-4A5D-ACF6-AAF6FACD0D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E45B8-CB79-413A-AC35-05E02EAE6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1EA77-3FD5-4605-A89F-E9028CA44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53406-364F-404D-B27D-71B6638092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6FB6C-B156-470F-883A-3E785A267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3B9FCA-1B5C-49C2-AD0D-B3D408BE7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C6C01-E74E-49E5-876C-5A894247D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8B885-A096-4217-875E-171CDE02B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F2BE9-689B-4272-BD48-3C19841F8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6945D-03AF-4BDE-8DBE-C07A2162B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C8CAD-7AED-47F4-99FA-8809C9D572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377E6-26CB-4568-B579-D0F8138152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2EF2C-5633-4F06-B757-9AB13AA3D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73D0D7-1B89-4D86-BACD-E7ED3B8D38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F05478-6000-4D31-9235-0B7C4A4EC6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63C212-80B6-4824-878A-04C71CC86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913B8A-F11B-490D-BFE5-1207AE3DB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44CD4-8E28-47E4-891B-FE6329E5C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7A2B5-3C3A-4FAF-AABB-91FBE7531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3D8EE4-0649-4DAC-8B2A-CE2720B101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65A06-9BCA-4F7C-B224-784C5791C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D850B-951F-4390-B480-08DB8541C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43C37-E1BD-4E7F-81F3-09D9D2DC3B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CC5E-F247-4C87-A0ED-7908B1D5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55F2B-8D84-4701-A655-21FD0D8191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5A7D60-5CB6-4106-846C-FB6AF4D252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128D70-ACBF-4D80-992A-61E08AF5D1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12082-6C08-4F5D-A08D-2F1172C790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18FE19-90BF-41E6-9847-9B12C2DC28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5FB74-A0B8-414A-9DC2-9807BB1397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5A6301-A098-4004-BC69-5B93C6D71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E0834-BDF8-4BC0-BA5A-8E3F93B99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758C7-A3E9-4F1F-A401-F1921771AA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10456-C77C-46F1-B76A-414A826C2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B224-EC1D-4D34-AD9A-5890D276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A03CF-6C9B-47A9-AB30-72EDF3999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2A767-2277-4A7C-BD4D-27F3300565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90DB0-9262-4FFE-92D2-771FE2776E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43A6BC-97D3-4C83-A7A2-BA6589CF74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C31EA3-6226-40EF-94A9-8422FC56B8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D72B03-81B7-4541-A5AA-ADBFF82B23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07B89-3926-4385-ABEA-3A8B56CACD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91E99-EC96-43B0-B1A7-A59FC0DE7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509B46-6DB2-4ECB-A589-CADE30E70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0C80EE-3999-4A03-A0D6-C4909FC170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6E71-BD72-4E54-AE2F-835E7F247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CAABE9-1E74-415D-A60B-1EB17A242E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90C67-96A4-4FEA-B69C-2DB818CE69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56E4C-6EDB-428A-A22C-CA0EB5B13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B76659-EB72-44E1-96DE-9530A17BCA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FF4219-9C87-48CC-A496-89B684CC4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983994-09A4-46EE-B818-D9D9C708A1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E45497-AFA9-4FDE-8B55-10CB0220F4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0DCA-187B-4E1E-A501-320313D0D68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4EC2-9E37-4CBA-8B8B-357CC3BE3B3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696F-F29B-410F-AECB-7BE32DB6280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D552-73B8-4A29-BEA3-D254538C57B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F8EC-A676-49BC-8EB2-791412A37AE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59AD-296F-4633-A751-3B8A5F9C815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4533-9E5D-469F-A466-419BAFB5D11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8D78-9159-407C-9660-7E78029290A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reencast.com/t/LaWoxYs8GnH" TargetMode="External"/><Relationship Id="rId2" Type="http://schemas.openxmlformats.org/officeDocument/2006/relationships/hyperlink" Target="file:///Examples%20Middle%20School/Graph%20with%20Progress%20Monitoring%20Data%20at%20Bottom%5B1%5D.pdf" TargetMode="External"/><Relationship Id="rId3" Type="http://schemas.openxmlformats.org/officeDocument/2006/relationships/hyperlink" Target="http://teacherpages.nhcs.net/schools/parsley/karlysokolowski/Pages/PSMLevel3(ElementaryandMiddleSchoolModels).aspx" TargetMode="External"/><Relationship Id="rId4" Type="http://schemas.openxmlformats.org/officeDocument/2006/relationships/hyperlink" Target="file:///Examples%20Middle%20School/masterexcel_6-23-11_certified(1).xls" TargetMode="External"/><Relationship Id="rId5" Type="http://schemas.openxmlformats.org/officeDocument/2006/relationships/hyperlink" Target="file:///Examples%20Middle%20School/Instructions_for_PM_Excel_Doc.doc" TargetMode="External"/><Relationship Id="rId6" Type="http://schemas.openxmlformats.org/officeDocument/2006/relationships/hyperlink" Target="file:///Examples%20Middle%20School/Progress%20Monitoring%20Log%20(Date,%20Number%20Correct%20and%20Observations).doc" TargetMode="External"/><Relationship Id="rId7" Type="http://schemas.openxmlformats.org/officeDocument/2006/relationships/hyperlink" Target="file:///Examples%20Middle%20School/Probe%20Data%20Summary.doc" TargetMode="External"/><Relationship Id="rId8" Type="http://schemas.openxmlformats.org/officeDocument/2006/relationships/hyperlink" Target="file:///Examples%20Middle%20School/How%20to%20Calculate%20Student%20Growth%20Rate%20and%20Number%20of%20Weeks%20to%20Reach%20Goal.doc" TargetMode="External"/><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Documentation/Highlighted%20Documentation/Example/Census%20directions%202-13-12.doc"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upport.google.com/docs/?hl=en" TargetMode="External"/><Relationship Id="rId2" Type="http://schemas.openxmlformats.org/officeDocument/2006/relationships/hyperlink" Target="http://support.google.com/docs/bin/answer.py?hl=en&amp;answer=49008&amp;ctx=cb&amp;src=cb&amp;cbid=1ixhqw1a21ljl" TargetMode="External"/><Relationship Id="rId3" Type="http://schemas.openxmlformats.org/officeDocument/2006/relationships/hyperlink" Target="http://support.google.com/docs/bin/answer.py?hl=en&amp;answer=87809&amp;ctx=cb&amp;src=cb&amp;cbid=tjsoc4shk6jy" TargetMode="External"/><Relationship Id="rId4" Type="http://schemas.openxmlformats.org/officeDocument/2006/relationships/hyperlink" Target="http://support.google.com/docs/bin/answer.py?hl=en&amp;answer=57859&amp;ctx=cb&amp;src=cb&amp;cbid=vu6lr18piw9l" TargetMode="External"/><Relationship Id="rId5" Type="http://schemas.openxmlformats.org/officeDocument/2006/relationships/hyperlink" Target="http://support.google.com/docs/bin/topic.py?hl=en&amp;topic=1360901&amp;parent=1360868&amp;ctx=topic" TargetMode="External"/><Relationship Id="rId6" Type="http://schemas.openxmlformats.org/officeDocument/2006/relationships/hyperlink" Target="http://support.google.com/docs/bin/topic.py?hl=en&amp;topic=1628465&amp;parent=1360868&amp;ctx=topic" TargetMode="External"/><Relationship Id="rId7" Type="http://schemas.openxmlformats.org/officeDocument/2006/relationships/hyperlink" Target="http://support.google.com/docs/bin/topic.py?hl=en&amp;topic=1360905&amp;parent=1360895&amp;ctx=topic" TargetMode="External"/><Relationship Id="rId8" Type="http://schemas.openxmlformats.org/officeDocument/2006/relationships/hyperlink" Target="http://support.google.com/docs/bin/topic.py?hl=en&amp;topic=1360906&amp;parent=1360895&amp;ctx=topic" TargetMode="External"/><Relationship Id="rId9" Type="http://schemas.openxmlformats.org/officeDocument/2006/relationships/hyperlink" Target="http://support.google.com/docs/bin/topic.py?hl=en&amp;topic=1360907&amp;parent=1360895&amp;ctx=topic" TargetMode="External"/><Relationship Id="rId10" Type="http://schemas.openxmlformats.org/officeDocument/2006/relationships/hyperlink" Target="http://support.google.com/docs/bin/answer.py?hl=en&amp;answer=1704883&amp;topic=1382882&amp;ctx=topic" TargetMode="External"/><Relationship Id="rId11" Type="http://schemas.openxmlformats.org/officeDocument/2006/relationships/hyperlink" Target="http://www.google.com/appsstatus" TargetMode="External"/><Relationship Id="rId12" Type="http://schemas.openxmlformats.org/officeDocument/2006/relationships/hyperlink" Target="http://support.google.com/docs/bin/answer.py?hl=en&amp;answer=32050&amp;topic=1382882&amp;ctx=topic" TargetMode="Externa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Examples%20Middle%20School/6-8%20Tier%203%20a&amp;b%20Define%20beh%20ex%203-5-12.docx"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Examples%20Middle%20School/Tier%203%20c%20ex%20beh%203-5-12.doc" TargetMode="External"/><Relationship Id="rId2" Type="http://schemas.openxmlformats.org/officeDocument/2006/relationships/hyperlink" Target="file:///Examples%20Middle%20School/RTI_Adverse_Effect_revised_10-28-11.docx"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Examples%20Middle%20School/6-8%20Tier%203d%20ex%20beh%203-5-12.docx" TargetMode="External"/><Relationship Id="rId2" Type="http://schemas.openxmlformats.org/officeDocument/2006/relationships/hyperlink" Target="file:///Examples%20Middle%20School/Self-monitoring%20directions%20for%20implementation.docx" TargetMode="External"/><Relationship Id="rId3" Type="http://schemas.openxmlformats.org/officeDocument/2006/relationships/hyperlink" Target="file:///Documentation/Highlighted%20Documentation/Example/Self-monitoring%20directions%20for%20implementation.docx" TargetMode="External"/><Relationship Id="rId4" Type="http://schemas.openxmlformats.org/officeDocument/2006/relationships/hyperlink" Target="http://dpi.wi.gov/sped/ebdbluepri.html" TargetMode="External"/><Relationship Id="rId5" Type="http://schemas.openxmlformats.org/officeDocument/2006/relationships/hyperlink" Target="http://www.cccoe.net/social/skillslist.htm" TargetMode="External"/><Relationship Id="rId6" Type="http://schemas.openxmlformats.org/officeDocument/2006/relationships/hyperlink" Target="http://www.jimwrightonline.com/mixed_files/OSPA/wright_OSPA_Day_1_morning_RTI_Teams.pdf" TargetMode="External"/><Relationship Id="rId7" Type="http://schemas.openxmlformats.org/officeDocument/2006/relationships/hyperlink" Target="http://www.rtimdirect.com/pdf/RTIatMiddleandHighSchoolJimWrightWebinarSlides101809.pdf" TargetMode="External"/><Relationship Id="rId8" Type="http://schemas.openxmlformats.org/officeDocument/2006/relationships/hyperlink" Target="http://teacherpages.nhcs.net/schools/parsley/karlysokolowski/Pages/BehaviorandOff-TaskInterventions.aspx" TargetMode="External"/><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Examples%20Middle%20School/6-8%20Tier%203e%20ex%20beh%203-5-12%20hands%20feet.docx"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Examples%20Middle%20School/Tier%203f%20ex%20beh%203-5-12.doc" TargetMode="External"/><Relationship Id="rId2" Type="http://schemas.openxmlformats.org/officeDocument/2006/relationships/hyperlink" Target="file:///Examples%20Middle%20School/RTI_Adverse_Effect_revised_10-28-11.docx"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s, &amp; Progress Monitoring/Graphing</a:t>
            </a:r>
            <a:endParaRPr b="0" lang="en-US" sz="26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March 5,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 for: </a:t>
            </a:r>
            <a:br>
              <a:rPr sz="3200"/>
            </a:br>
            <a:r>
              <a:rPr b="0" lang="en-US" sz="3200" spc="-1" strike="noStrike">
                <a:solidFill>
                  <a:srgbClr val="464653"/>
                </a:solidFill>
                <a:latin typeface="Bookman Old Style"/>
              </a:rPr>
              <a:t>Progress Monitoring &amp; Graphing</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Monitoring Graphing Example Video (See p. 14)</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1"/>
              </a:rPr>
              <a:t>http://screencast.com/t/LaWoxYs8GnH</a:t>
            </a:r>
            <a:endParaRPr b="0" lang="en-US" sz="2300" spc="-1" strike="noStrike">
              <a:solidFill>
                <a:srgbClr val="464653"/>
              </a:solidFill>
              <a:latin typeface="Gill Sans MT"/>
            </a:endParaRPr>
          </a:p>
          <a:p>
            <a:pPr marL="240120" indent="-240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Other Resources: </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aper Pencil Graph (</a:t>
            </a:r>
            <a:r>
              <a:rPr b="0" lang="en-US" sz="2600" spc="-1" strike="noStrike" u="sng">
                <a:solidFill>
                  <a:srgbClr val="b292ca"/>
                </a:solidFill>
                <a:uFillTx/>
                <a:latin typeface="Gill Sans MT"/>
                <a:hlinkClick r:id="rId2"/>
              </a:rPr>
              <a:t>example p. 14</a:t>
            </a:r>
            <a:r>
              <a:rPr b="0" lang="en-US" sz="2600" spc="-1" strike="noStrike">
                <a:solidFill>
                  <a:srgbClr val="000000"/>
                </a:solidFill>
                <a:latin typeface="Gill Sans MT"/>
              </a:rPr>
              <a:t>) </a:t>
            </a:r>
            <a:r>
              <a:rPr b="0" lang="en-US" sz="1200" spc="-1" strike="noStrike" u="sng">
                <a:solidFill>
                  <a:srgbClr val="b292ca"/>
                </a:solidFill>
                <a:uFillTx/>
                <a:latin typeface="Gill Sans MT"/>
                <a:hlinkClick r:id="rId3"/>
              </a:rPr>
              <a:t>http://teacherpages.nhcs.net/schools/parsley/karlysokolowski/Pages/PSMLevel3(ElementaryandMiddleSchoolModels).aspx</a:t>
            </a:r>
            <a:endParaRPr b="0" lang="en-US" sz="12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u="sng">
                <a:solidFill>
                  <a:srgbClr val="b292ca"/>
                </a:solidFill>
                <a:uFillTx/>
                <a:latin typeface="Gill Sans MT"/>
                <a:hlinkClick r:id="rId4"/>
              </a:rPr>
              <a:t>Eitelman Graph in Excel </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5"/>
              </a:rPr>
              <a:t>Directions for Eitelman Graph </a:t>
            </a:r>
            <a:endParaRPr b="0" lang="en-US" sz="2300" spc="-1" strike="noStrike">
              <a:solidFill>
                <a:srgbClr val="464653"/>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arly’s:</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6"/>
              </a:rPr>
              <a:t>Progress Monitoring Log </a:t>
            </a:r>
            <a:r>
              <a:rPr b="0" lang="en-US" sz="2600" spc="-1" strike="noStrike">
                <a:solidFill>
                  <a:srgbClr val="000000"/>
                </a:solidFill>
                <a:latin typeface="Gill Sans MT"/>
              </a:rPr>
              <a:t>&amp; </a:t>
            </a:r>
            <a:r>
              <a:rPr b="0" lang="en-US" sz="2600" spc="-1" strike="noStrike" u="sng">
                <a:solidFill>
                  <a:srgbClr val="b292ca"/>
                </a:solidFill>
                <a:uFillTx/>
                <a:latin typeface="Gill Sans MT"/>
                <a:hlinkClick r:id="rId7"/>
              </a:rPr>
              <a:t>Probe Data Summary</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8"/>
              </a:rPr>
              <a:t>How to Determine Growth Rate &amp; # of Weeks to Goal</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This is just for academics.)</a:t>
            </a:r>
            <a:endParaRPr b="0" lang="en-US" sz="23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86">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86">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8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8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8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8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88" name="Content Placeholder 8"/>
          <p:cNvGraphicFramePr/>
          <p:nvPr/>
        </p:nvGraphicFramePr>
        <p:xfrm>
          <a:off x="0" y="1258920"/>
          <a:ext cx="8988480" cy="5019480"/>
        </p:xfrm>
        <a:graphic>
          <a:graphicData uri="http://schemas.openxmlformats.org/presentationml/2006/ole">
            <p:oleObj r:id="rId1" spid="">
              <p:embed/>
              <p:pic>
                <p:nvPicPr>
                  <p:cNvPr id="389" name="Content Placeholder 8" descr=""/>
                  <p:cNvPicPr/>
                  <p:nvPr/>
                </p:nvPicPr>
                <p:blipFill>
                  <a:blip r:embed="rId2"/>
                  <a:stretch/>
                </p:blipFill>
                <p:spPr>
                  <a:xfrm>
                    <a:off x="0" y="1258920"/>
                    <a:ext cx="8988480" cy="5019480"/>
                  </a:xfrm>
                  <a:prstGeom prst="rect">
                    <a:avLst/>
                  </a:prstGeom>
                  <a:ln w="0">
                    <a:noFill/>
                  </a:ln>
                </p:spPr>
              </p:pic>
            </p:oleObj>
          </a:graphicData>
        </a:graphic>
      </p:graphicFrame>
      <p:sp>
        <p:nvSpPr>
          <p:cNvPr id="390" name="Rectangle 5"/>
          <p:cNvSpPr/>
          <p:nvPr/>
        </p:nvSpPr>
        <p:spPr>
          <a:xfrm>
            <a:off x="0" y="432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e area of physical aggression, he continues to display physical aggression multiple times during the school day as indicated by the downward trend line. At this rate, the student’s trend line will not meet his aim line in the area of physical aggression in 18 weeks or l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pic>
        <p:nvPicPr>
          <p:cNvPr id="392" name="Content Placeholder 5" descr=""/>
          <p:cNvPicPr/>
          <p:nvPr/>
        </p:nvPicPr>
        <p:blipFill>
          <a:blip r:embed="rId1"/>
          <a:stretch/>
        </p:blipFill>
        <p:spPr>
          <a:xfrm>
            <a:off x="406440" y="1168560"/>
            <a:ext cx="8331120" cy="5038560"/>
          </a:xfrm>
          <a:prstGeom prst="rect">
            <a:avLst/>
          </a:prstGeom>
          <a:ln w="0">
            <a:noFill/>
          </a:ln>
        </p:spPr>
      </p:pic>
      <p:graphicFrame>
        <p:nvGraphicFramePr>
          <p:cNvPr id="393"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Respectful Behavior (77%)</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95"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6" name=""/>
          <p:cNvGraphicFramePr/>
          <p:nvPr/>
        </p:nvGraphicFramePr>
        <p:xfrm>
          <a:off x="380880" y="228600"/>
          <a:ext cx="8001000" cy="1143000"/>
        </p:xfrm>
        <a:graphic>
          <a:graphicData uri="http://schemas.openxmlformats.org/drawingml/2006/table">
            <a:tbl>
              <a:tblPr/>
              <a:tblGrid>
                <a:gridCol w="1600200"/>
                <a:gridCol w="1600200"/>
                <a:gridCol w="1600200"/>
                <a:gridCol w="1600200"/>
                <a:gridCol w="1600200"/>
              </a:tblGrid>
              <a:tr h="53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603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Following Directions (8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7" name="Content Placeholder 6"/>
          <p:cNvGraphicFramePr/>
          <p:nvPr/>
        </p:nvGraphicFramePr>
        <p:xfrm>
          <a:off x="222120" y="1255680"/>
          <a:ext cx="8623440" cy="5051520"/>
        </p:xfrm>
        <a:graphic>
          <a:graphicData uri="http://schemas.openxmlformats.org/presentationml/2006/ole">
            <p:oleObj r:id="rId1" spid="">
              <p:embed/>
              <p:pic>
                <p:nvPicPr>
                  <p:cNvPr id="398" name="Content Placeholder 6" descr=""/>
                  <p:cNvPicPr/>
                  <p:nvPr/>
                </p:nvPicPr>
                <p:blipFill>
                  <a:blip r:embed="rId2"/>
                  <a:stretch/>
                </p:blipFill>
                <p:spPr>
                  <a:xfrm>
                    <a:off x="222120" y="1255680"/>
                    <a:ext cx="8623440" cy="505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Q &amp; A</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are your ques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1"/>
              </a:rPr>
              <a:t>DPI Census Direc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Additional Resources: </a:t>
            </a:r>
            <a:br>
              <a:rPr sz="3200"/>
            </a:br>
            <a:r>
              <a:rPr b="0" lang="en-US" sz="3200" spc="-1" strike="noStrike" u="sng">
                <a:solidFill>
                  <a:srgbClr val="b292ca"/>
                </a:solidFill>
                <a:uFillTx/>
                <a:latin typeface="Bookman Old Style"/>
                <a:hlinkClick r:id="rId1"/>
              </a:rPr>
              <a:t>http://support.google.com/docs/?hl=en</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402" name=""/>
          <p:cNvSpPr txBox="1"/>
          <p:nvPr/>
        </p:nvSpPr>
        <p:spPr>
          <a:xfrm>
            <a:off x="456840" y="1219320"/>
            <a:ext cx="404172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ow t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pular articles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2"/>
              </a:rPr>
              <a:t>An overview of Google Docs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3"/>
              </a:rPr>
              <a:t>Create, send, share, and edit a form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Spell check and automatic corrections </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ork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nage, upload, and expor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hare, publish, and embed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Spreadsheet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Work offlin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7"/>
              </a:rPr>
              <a:t>Sync and storag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8"/>
              </a:rPr>
              <a:t>Manage your file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9"/>
              </a:rPr>
              <a:t>Upload or download files</a:t>
            </a:r>
            <a:r>
              <a:rPr b="0" lang="en-US" sz="1400" spc="-1" strike="noStrike">
                <a:solidFill>
                  <a:srgbClr val="000000"/>
                </a:solidFill>
                <a:latin typeface="Gill Sans MT"/>
              </a:rPr>
              <a:t> </a:t>
            </a:r>
            <a:endParaRPr b="0" lang="en-US" sz="1400" spc="-1" strike="noStrike">
              <a:solidFill>
                <a:srgbClr val="000000"/>
              </a:solidFill>
              <a:latin typeface="Gill Sans MT"/>
            </a:endParaRPr>
          </a:p>
        </p:txBody>
      </p:sp>
      <p:sp>
        <p:nvSpPr>
          <p:cNvPr id="403" name=""/>
          <p:cNvSpPr txBox="1"/>
          <p:nvPr/>
        </p:nvSpPr>
        <p:spPr>
          <a:xfrm>
            <a:off x="4632120" y="1216080"/>
            <a:ext cx="40417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Fix a problem</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0"/>
              </a:rPr>
              <a:t>Document deletion and recovery policy</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1"/>
              </a:rPr>
              <a:t>Google Docs service statu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2"/>
              </a:rPr>
              <a:t>Clearing cache and cookie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emporary Errors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ind a missing documen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Docs Known Issues page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storage troubleshooting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roubleshooter introduction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hoose your issue below: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stions?</a:t>
            </a: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0" y="1980720"/>
            <a:ext cx="9144000" cy="2133720"/>
          </a:xfrm>
          <a:prstGeom prst="rect">
            <a:avLst/>
          </a:prstGeom>
          <a:noFill/>
          <a:ln w="0">
            <a:noFill/>
          </a:ln>
        </p:spPr>
        <p:txBody>
          <a:bodyPr anchor="t">
            <a:no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ki: </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6-8psmrtiseminar.wikispaces.com/Behavior+2011-2012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 &amp; Progress Monitoring/Graphing</a:t>
            </a:r>
            <a:endParaRPr b="0" lang="en-US" sz="2600" spc="-1" strike="noStrike">
              <a:solidFill>
                <a:srgbClr val="464653"/>
              </a:solidFill>
              <a:latin typeface="Bookman Old Style"/>
            </a:endParaRPr>
          </a:p>
        </p:txBody>
      </p:sp>
      <p:sp>
        <p:nvSpPr>
          <p:cNvPr id="407"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February 13,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le We’re Waiting for All to Arrive…</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lease read through case study handout…</a:t>
            </a:r>
            <a:endParaRPr b="0" lang="en-US" sz="2600" spc="-1" strike="noStrike">
              <a:solidFill>
                <a:srgbClr val="000000"/>
              </a:solidFill>
              <a:latin typeface="Gill Sans MT"/>
            </a:endParaRPr>
          </a:p>
          <a:p>
            <a:pPr marL="253440" indent="-253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focus on Tiers 1-2 (p.1-4 of handout)</a:t>
            </a: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become familiar with it</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what you would have done differently</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strong/weak aspects</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questions about the case/document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genda</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ased on the informal poll last time, you wanted to cover: </a:t>
            </a:r>
            <a:endParaRPr b="0" lang="en-US" sz="26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documentation</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dentify Interventions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1" lang="en-US" sz="2300" spc="-1" strike="noStrike">
                <a:solidFill>
                  <a:srgbClr val="464653"/>
                </a:solidFill>
                <a:latin typeface="Gill Sans MT"/>
              </a:rPr>
              <a:t>Case Study</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gress Monitoring &amp; Graphing Behaviors</a:t>
            </a:r>
            <a:endParaRPr b="0" lang="en-US" sz="2300" spc="-1" strike="noStrike">
              <a:solidFill>
                <a:srgbClr val="464653"/>
              </a:solidFill>
              <a:latin typeface="Gill Sans MT"/>
            </a:endParaRPr>
          </a:p>
          <a:p>
            <a:pPr lvl="1" marL="51444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1444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6320" indent="-2563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oogle Docs</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re your questions?           </a:t>
            </a:r>
            <a:r>
              <a:rPr b="1" lang="en-US" sz="2300" spc="-1" strike="noStrike">
                <a:solidFill>
                  <a:srgbClr val="464653"/>
                </a:solidFill>
                <a:latin typeface="Gill Sans MT"/>
              </a:rPr>
              <a:t>Q&amp;A</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a:t>
            </a: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5" name="Right Brace 3"/>
          <p:cNvSpPr/>
          <p:nvPr/>
        </p:nvSpPr>
        <p:spPr>
          <a:xfrm>
            <a:off x="5638680" y="2286000"/>
            <a:ext cx="1219320" cy="1905120"/>
          </a:xfrm>
          <a:custGeom>
            <a:avLst/>
            <a:gdLst>
              <a:gd name="textAreaLeft" fmla="*/ 0 w 1219320"/>
              <a:gd name="textAreaRight" fmla="*/ 440280 w 1219320"/>
              <a:gd name="textAreaTop" fmla="*/ 31680 h 1905120"/>
              <a:gd name="textAreaBottom" fmla="*/ 1873440 h 1905120"/>
            </a:gdLst>
            <a:ahLst/>
            <a:rect l="textAreaLeft" t="textAreaTop" r="textAreaRight" b="textAreaBottom"/>
            <a:pathLst>
              <a:path w="21600" h="21600">
                <a:moveTo>
                  <a:pt x="0" y="0"/>
                </a:moveTo>
                <a:cubicBezTo>
                  <a:pt x="5400" y="0"/>
                  <a:pt x="10800" y="576"/>
                  <a:pt x="10800" y="1152"/>
                </a:cubicBezTo>
                <a:lnTo>
                  <a:pt x="10800" y="9648"/>
                </a:lnTo>
                <a:cubicBezTo>
                  <a:pt x="10800" y="10224"/>
                  <a:pt x="16200" y="10800"/>
                  <a:pt x="21600" y="10800"/>
                </a:cubicBezTo>
                <a:cubicBezTo>
                  <a:pt x="16200" y="10800"/>
                  <a:pt x="10800" y="11376"/>
                  <a:pt x="10800" y="11952"/>
                </a:cubicBezTo>
                <a:lnTo>
                  <a:pt x="10800" y="20448"/>
                </a:lnTo>
                <a:cubicBezTo>
                  <a:pt x="10800" y="21024"/>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Right Brace 5"/>
          <p:cNvSpPr/>
          <p:nvPr/>
        </p:nvSpPr>
        <p:spPr>
          <a:xfrm>
            <a:off x="4038480" y="4876920"/>
            <a:ext cx="685800" cy="1066680"/>
          </a:xfrm>
          <a:custGeom>
            <a:avLst/>
            <a:gdLst>
              <a:gd name="textAreaLeft" fmla="*/ 0 w 685800"/>
              <a:gd name="textAreaRight" fmla="*/ 247680 w 685800"/>
              <a:gd name="textAreaTop" fmla="*/ 17640 h 1066680"/>
              <a:gd name="textAreaBottom" fmla="*/ 1049040 h 1066680"/>
            </a:gdLst>
            <a:ahLst/>
            <a:rect l="textAreaLeft" t="textAreaTop" r="textAreaRight" b="textAreaBottom"/>
            <a:pathLst>
              <a:path w="21600" h="21600">
                <a:moveTo>
                  <a:pt x="0" y="0"/>
                </a:moveTo>
                <a:cubicBezTo>
                  <a:pt x="5400" y="0"/>
                  <a:pt x="10800" y="579"/>
                  <a:pt x="10800" y="1157"/>
                </a:cubicBezTo>
                <a:lnTo>
                  <a:pt x="10800" y="9643"/>
                </a:lnTo>
                <a:cubicBezTo>
                  <a:pt x="10800" y="10222"/>
                  <a:pt x="16200" y="10800"/>
                  <a:pt x="21600" y="10800"/>
                </a:cubicBezTo>
                <a:cubicBezTo>
                  <a:pt x="16200" y="10800"/>
                  <a:pt x="10800" y="11379"/>
                  <a:pt x="10800" y="11957"/>
                </a:cubicBezTo>
                <a:lnTo>
                  <a:pt x="10800" y="20443"/>
                </a:lnTo>
                <a:cubicBezTo>
                  <a:pt x="10800" y="21022"/>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ust as a Reminder…</a:t>
            </a:r>
            <a:br>
              <a:rPr sz="3200"/>
            </a:br>
            <a:r>
              <a:rPr b="0" lang="en-US" sz="3200" spc="-1" strike="noStrike">
                <a:solidFill>
                  <a:srgbClr val="464653"/>
                </a:solidFill>
                <a:latin typeface="Bookman Old Style"/>
              </a:rPr>
              <a:t>All Behavior Serves a Function…</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The </a:t>
            </a:r>
            <a:r>
              <a:rPr b="1" lang="en-US" sz="2600" spc="-1" strike="noStrike" u="sng">
                <a:solidFill>
                  <a:srgbClr val="000000"/>
                </a:solidFill>
                <a:uFillTx/>
                <a:latin typeface="Gill Sans MT"/>
              </a:rPr>
              <a:t>FUNCTION</a:t>
            </a:r>
            <a:r>
              <a:rPr b="0" lang="en-US" sz="2600" spc="-1" strike="noStrike" u="sng">
                <a:solidFill>
                  <a:srgbClr val="000000"/>
                </a:solidFill>
                <a:uFillTx/>
                <a:latin typeface="Gill Sans MT"/>
              </a:rPr>
              <a:t> drives the interven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4 Main Functions</a:t>
            </a:r>
            <a:endParaRPr b="0" lang="en-US" sz="2600" spc="-1" strike="noStrike">
              <a:solidFill>
                <a:srgbClr val="000000"/>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ttention</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scape/Avoid</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ower</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lf-Stimulatory</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may </a:t>
            </a:r>
            <a:r>
              <a:rPr b="0" i="1" lang="en-US" sz="2600" spc="-1" strike="noStrike">
                <a:solidFill>
                  <a:srgbClr val="000000"/>
                </a:solidFill>
                <a:latin typeface="Gill Sans MT"/>
              </a:rPr>
              <a:t>LOOK</a:t>
            </a:r>
            <a:r>
              <a:rPr b="0" lang="en-US" sz="2600" spc="-1" strike="noStrike">
                <a:solidFill>
                  <a:srgbClr val="000000"/>
                </a:solidFill>
                <a:latin typeface="Gill Sans MT"/>
              </a:rPr>
              <a:t> the same, but serve </a:t>
            </a:r>
            <a:r>
              <a:rPr b="0" i="1" lang="en-US" sz="2600" spc="-1" strike="noStrike">
                <a:solidFill>
                  <a:srgbClr val="000000"/>
                </a:solidFill>
                <a:latin typeface="Gill Sans MT"/>
              </a:rPr>
              <a:t>DIFFERENT FUNCTIONS</a:t>
            </a: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function is determined through data collec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8">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8">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8">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68">
                                            <p:txEl>
                                              <p:pRg st="7" end="7"/>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8">
                                            <p:txEl>
                                              <p:pRg st="9" end="9"/>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6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a&amp;b </a:t>
            </a:r>
            <a:r>
              <a:rPr b="0" lang="en-US" sz="2600" spc="-1" strike="noStrike">
                <a:solidFill>
                  <a:srgbClr val="000000"/>
                </a:solidFill>
                <a:latin typeface="Gill Sans MT"/>
              </a:rPr>
              <a:t>(See p. 5)</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Questions?” and “What  Assessment?” w/ neighb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1"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6000"/>
          </a:bodyPr>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c</a:t>
            </a:r>
            <a:r>
              <a:rPr b="0" lang="en-US" sz="2600" spc="-1" strike="noStrike">
                <a:solidFill>
                  <a:srgbClr val="000000"/>
                </a:solidFill>
                <a:latin typeface="Gill Sans MT"/>
              </a:rPr>
              <a:t> (See top of p. 6)</a:t>
            </a:r>
            <a:endParaRPr b="0" lang="en-US" sz="2600" spc="-1" strike="noStrike">
              <a:solidFill>
                <a:srgbClr val="000000"/>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a:t>
            </a:r>
            <a:r>
              <a:rPr b="0" lang="en-US" sz="2300" spc="-1" strike="noStrike">
                <a:solidFill>
                  <a:srgbClr val="464653"/>
                </a:solidFill>
                <a:latin typeface="Gill Sans MT"/>
              </a:rPr>
              <a:t>” document (See p. 7)</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formance well below peers indicated by goals: </a:t>
            </a:r>
            <a:endParaRPr b="0" lang="en-US" sz="20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5% (noncompliance without overt aggressive behaviors: Insubordination, work completion, time off task) &amp;</a:t>
            </a:r>
            <a:endParaRPr b="0" lang="en-US" sz="18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00% (harmful to self and/or others…assault/battery, cursing/tantrums)</a:t>
            </a:r>
            <a:endParaRPr b="0" lang="en-US" sz="18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4"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7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73">
                                            <p:txEl>
                                              <p:pRg st="9" end="9"/>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73">
                                            <p:txEl>
                                              <p:pRg st="10" end="1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a:t>
            </a:r>
            <a:br>
              <a:rPr sz="3200"/>
            </a:br>
            <a:r>
              <a:rPr b="0" lang="en-US" sz="3200" spc="-1" strike="noStrike">
                <a:solidFill>
                  <a:srgbClr val="464653"/>
                </a:solidFill>
                <a:latin typeface="Bookman Old Style"/>
              </a:rPr>
              <a:t>Identify Interventions</a:t>
            </a:r>
            <a:endParaRPr b="0" lang="en-US" sz="3200" spc="-1" strike="noStrike">
              <a:solidFill>
                <a:srgbClr val="464653"/>
              </a:solidFill>
              <a:latin typeface="Bookman Old Style"/>
            </a:endParaRPr>
          </a:p>
        </p:txBody>
      </p:sp>
      <p:sp>
        <p:nvSpPr>
          <p:cNvPr id="376" name=""/>
          <p:cNvSpPr txBox="1"/>
          <p:nvPr/>
        </p:nvSpPr>
        <p:spPr>
          <a:xfrm>
            <a:off x="228600" y="1219320"/>
            <a:ext cx="8686800" cy="4937040"/>
          </a:xfrm>
          <a:prstGeom prst="rect">
            <a:avLst/>
          </a:prstGeom>
          <a:noFill/>
          <a:ln w="0">
            <a:noFill/>
          </a:ln>
        </p:spPr>
        <p:txBody>
          <a:bodyPr anchor="t">
            <a:normAutofit fontScale="83000"/>
          </a:bodyPr>
          <a:p>
            <a:pPr marL="426960" indent="-42696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d</a:t>
            </a:r>
            <a:r>
              <a:rPr b="0" lang="en-US" sz="2600" spc="-1" strike="noStrike">
                <a:solidFill>
                  <a:srgbClr val="000000"/>
                </a:solidFill>
                <a:latin typeface="Gill Sans MT"/>
              </a:rPr>
              <a:t> (See p. 8)</a:t>
            </a:r>
            <a:endParaRPr b="0" lang="en-US" sz="2600" spc="-1" strike="noStrike">
              <a:solidFill>
                <a:srgbClr val="000000"/>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Teaching Strategies” thru 2</a:t>
            </a:r>
            <a:r>
              <a:rPr b="0" lang="en-US" sz="2300" spc="-1" strike="noStrike" baseline="30000">
                <a:solidFill>
                  <a:srgbClr val="464653"/>
                </a:solidFill>
                <a:latin typeface="Gill Sans MT"/>
              </a:rPr>
              <a:t>nd</a:t>
            </a:r>
            <a:r>
              <a:rPr b="0" lang="en-US" sz="2300" spc="-1" strike="noStrike">
                <a:solidFill>
                  <a:srgbClr val="464653"/>
                </a:solidFill>
                <a:latin typeface="Gill Sans MT"/>
              </a:rPr>
              <a:t>  “Person Responsible”</a:t>
            </a:r>
            <a:endParaRPr b="0" lang="en-US" sz="2300" spc="-1" strike="noStrike">
              <a:solidFill>
                <a:srgbClr val="464653"/>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Self-monitoring implementation direction sheet</a:t>
            </a:r>
            <a:r>
              <a:rPr b="0" lang="en-US" sz="2300" spc="-1" strike="noStrike" u="sng">
                <a:solidFill>
                  <a:srgbClr val="b292ca"/>
                </a:solidFill>
                <a:uFillTx/>
                <a:latin typeface="Gill Sans MT"/>
                <a:hlinkClick r:id="rId3"/>
              </a:rPr>
              <a:t> </a:t>
            </a:r>
            <a:r>
              <a:rPr b="0" lang="en-US" sz="2300" spc="-1" strike="noStrike">
                <a:solidFill>
                  <a:srgbClr val="464653"/>
                </a:solidFill>
                <a:latin typeface="Gill Sans MT"/>
              </a:rPr>
              <a:t>(p. 9)</a:t>
            </a:r>
            <a:endParaRPr b="0" lang="en-US" sz="2300" spc="-1" strike="noStrike">
              <a:solidFill>
                <a:srgbClr val="464653"/>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 for Interventions</a:t>
            </a:r>
            <a:endParaRPr b="0" lang="en-US" sz="2300" spc="-1" strike="noStrike">
              <a:solidFill>
                <a:srgbClr val="464653"/>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lueprints for Success: Instructional Strategies to Promote Appropriate Student Behavior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http://dpi.wi.gov/sped/ebdbluepri.html</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ocial Skills Lesson Plans for Middle School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http://www.cccoe.net/social/skillslist.htm</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Excellent Article </a:t>
            </a:r>
            <a:r>
              <a:rPr b="0" lang="en-US" sz="1400" spc="-1" strike="noStrike">
                <a:solidFill>
                  <a:srgbClr val="000000"/>
                </a:solidFill>
                <a:latin typeface="Gill Sans MT"/>
              </a:rPr>
              <a:t>from Jim Wright (Intervention Central) on RTI and Middle Schools (p. 8-31 resources for good PSM/RTI meeting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7"/>
              </a:rPr>
              <a:t>Another Excellent Article </a:t>
            </a:r>
            <a:r>
              <a:rPr b="0" lang="en-US" sz="1400" spc="-1" strike="noStrike">
                <a:solidFill>
                  <a:srgbClr val="000000"/>
                </a:solidFill>
                <a:latin typeface="Gill Sans MT"/>
              </a:rPr>
              <a:t>from Jim Wright (Intervention Central) on RTI and Middle Schools (p. 16-19 observation checklist for Tier 1 classroom interventions)</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Karly’s Behavior Resource Page</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8"/>
              </a:rPr>
              <a:t>http://teacherpages.nhcs.net/schools/parsley/karlysokolowski/Pages/BehaviorandOff-TaskInterventions.asp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6960" indent="-42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Gill Sans MT"/>
            </a:endParaRPr>
          </a:p>
          <a:p>
            <a:pPr lvl="1" marL="454320" indent="-226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426960" indent="-4269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76">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6">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6">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6">
                                            <p:txEl>
                                              <p:pRg st="10" end="1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6">
                                            <p:txEl>
                                              <p:pRg st="10" end="1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76">
                                            <p:txEl>
                                              <p:pRg st="11" end="11"/>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6">
                                            <p:txEl>
                                              <p:pRg st="12" end="1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7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a:t>
            </a:r>
            <a:br>
              <a:rPr sz="3200"/>
            </a:br>
            <a:r>
              <a:rPr b="0" lang="en-US" sz="3200" spc="-1" strike="noStrike">
                <a:solidFill>
                  <a:srgbClr val="464653"/>
                </a:solidFill>
                <a:latin typeface="Bookman Old Style"/>
              </a:rPr>
              <a:t>Identify Interventions</a:t>
            </a:r>
            <a:endParaRPr b="0" lang="en-US" sz="3200" spc="-1" strike="noStrike">
              <a:solidFill>
                <a:srgbClr val="464653"/>
              </a:solidFill>
              <a:latin typeface="Bookman Old Style"/>
            </a:endParaRPr>
          </a:p>
        </p:txBody>
      </p:sp>
      <p:sp>
        <p:nvSpPr>
          <p:cNvPr id="378" name=""/>
          <p:cNvSpPr txBox="1"/>
          <p:nvPr/>
        </p:nvSpPr>
        <p:spPr>
          <a:xfrm>
            <a:off x="457200" y="1218960"/>
            <a:ext cx="8686800" cy="518148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e</a:t>
            </a:r>
            <a:r>
              <a:rPr b="0" lang="en-US" sz="2600" spc="-1" strike="noStrike">
                <a:solidFill>
                  <a:srgbClr val="000000"/>
                </a:solidFill>
                <a:latin typeface="Gill Sans MT"/>
              </a:rPr>
              <a:t> (See p. 10-11)</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ke changes to each intervention (Work Completion and Hands and Feet to Self) using 1 or more of the following:  (See p. 12)</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grpSp>
        <p:nvGrpSpPr>
          <p:cNvPr id="379" name="Group 10"/>
          <p:cNvGrpSpPr/>
          <p:nvPr/>
        </p:nvGrpSpPr>
        <p:grpSpPr>
          <a:xfrm>
            <a:off x="533520" y="2819520"/>
            <a:ext cx="8076960" cy="3660120"/>
            <a:chOff x="533520" y="2819520"/>
            <a:chExt cx="8076960" cy="3660120"/>
          </a:xfrm>
        </p:grpSpPr>
        <p:sp>
          <p:nvSpPr>
            <p:cNvPr id="380" name="TextBox 11"/>
            <p:cNvSpPr/>
            <p:nvPr/>
          </p:nvSpPr>
          <p:spPr>
            <a:xfrm>
              <a:off x="4867560" y="2819520"/>
              <a:ext cx="374292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urriculum, Instruction</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gram,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tting</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tivation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nds/Feet to Self:</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instruc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Training Progra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w/counselo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min/day for 1day/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15 min. PAT for 80% pt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Box 12"/>
            <p:cNvSpPr/>
            <p:nvPr/>
          </p:nvSpPr>
          <p:spPr>
            <a:xfrm>
              <a:off x="533520" y="2819520"/>
              <a:ext cx="391644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equency</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uration</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Group Size</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kill Set of Staff Member</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 Complet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 work comple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ing for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w/ counselo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day for 1 day/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time w/preferred adul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82" name="TextBox 6"/>
          <p:cNvSpPr/>
          <p:nvPr/>
        </p:nvSpPr>
        <p:spPr>
          <a:xfrm>
            <a:off x="2514600" y="403848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Here’s Where We Started: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Set Goals</a:t>
            </a:r>
            <a:endParaRPr b="0" lang="en-US" sz="3200" spc="-1" strike="noStrike">
              <a:solidFill>
                <a:srgbClr val="464653"/>
              </a:solidFill>
              <a:latin typeface="Bookman Old Style"/>
            </a:endParaRPr>
          </a:p>
        </p:txBody>
      </p:sp>
      <p:sp>
        <p:nvSpPr>
          <p:cNvPr id="384" name=""/>
          <p:cNvSpPr txBox="1"/>
          <p:nvPr/>
        </p:nvSpPr>
        <p:spPr>
          <a:xfrm>
            <a:off x="457200" y="1219320"/>
            <a:ext cx="8686800" cy="493704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f </a:t>
            </a:r>
            <a:r>
              <a:rPr b="0" lang="en-US" sz="2600" spc="-1" strike="noStrike">
                <a:solidFill>
                  <a:srgbClr val="000000"/>
                </a:solidFill>
                <a:latin typeface="Gill Sans MT"/>
              </a:rPr>
              <a:t>(See p. 13)</a:t>
            </a: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 </a:t>
            </a:r>
            <a:r>
              <a:rPr b="0" lang="en-US" sz="2300" spc="-1" strike="noStrike">
                <a:solidFill>
                  <a:srgbClr val="464653"/>
                </a:solidFill>
                <a:latin typeface="Gill Sans MT"/>
              </a:rPr>
              <a:t>document (See p. 7)</a:t>
            </a:r>
            <a:endParaRPr b="0" lang="en-US" sz="2300" spc="-1" strike="noStrike">
              <a:solidFill>
                <a:srgbClr val="464653"/>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d the student meet the performanc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n we tell if the student met the growth rat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instructional intensity resemble special educatio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84">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8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84">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84">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6:42:32Z</dcterms:created>
  <dc:creator>swadmin</dc:creator>
  <dc:description/>
  <dc:language>en-US</dc:language>
  <cp:lastModifiedBy>Leigh</cp:lastModifiedBy>
  <dcterms:modified xsi:type="dcterms:W3CDTF">2012-03-06T19:43:57Z</dcterms:modified>
  <cp:revision>170</cp:revision>
  <dc:subject/>
  <dc:title>BEHAVIOR BASICS FBA/BIP &amp; INTERVENTIONS</dc:title>
</cp:coreProperties>
</file>